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135-1A10-424C-AB26-0CF198A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C62-59D9-45FF-A5B6-F9901EF2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539-94BD-4641-8F55-A4B69E51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91A-C195-4C7B-8537-639F68B8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D8F-9860-469A-B0EA-2CEED70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000-939F-4E79-AFE4-E84711A2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7E0-99A3-4893-B1DC-D7B0749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8A6-4906-4EE1-87DB-FC22DD29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55A-B5FE-47E0-A245-7A26CBCA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86F-CD53-4253-9BE3-A75B618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AC8-0527-453F-8247-CCDFEE4C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1DB-938D-4930-A71A-CD4727F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646A-AA71-4A3F-82ED-BE7AEA65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day in the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640080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Kayleigh Bo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 Friends 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358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friend Soph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11640" cy="38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717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Teachers And Frie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869000"/>
            <a:ext cx="3683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my tutor miss scirriano and she is reall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new friend I’ve made at Gordano School called Lily-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31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05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fo about Gorda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1,700 students at Gordan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120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 are loads of different lessons (Drama, Art, I.T.C,  English, maths, science, design technology, languages, humanities, music and P.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get loads of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10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 On my 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373720"/>
            <a:ext cx="8218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icture  of me and me and my friends on my firs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12800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7636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72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u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9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houses at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hannon- This house is blue with 253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Lundy- This house is purple and has 251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itzroy-This house is orange and has 231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Cromarty-This house is green and has 224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tland-This house is yellow and has 210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scay-this house is red and has 224 pupil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5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8:40:44Z</dcterms:created>
  <dc:creator>8kayleighboyce</dc:creator>
  <dc:description/>
  <dc:language>en-US</dc:language>
  <cp:lastModifiedBy>8kayleighboyce</cp:lastModifiedBy>
  <dcterms:modified xsi:type="dcterms:W3CDTF">2008-11-05T09:47:46Z</dcterms:modified>
  <cp:revision>6</cp:revision>
  <dc:subject/>
  <dc:title>A day in the life!</dc:title>
</cp:coreProperties>
</file>